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FCF-A9B4-47CA-ACAA-417FA704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60B-5476-4137-B0F4-E23187BD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ADD-B791-44BF-AFB3-5577E169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5E39-F699-4C3A-B2D8-A3E2EA6B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6B9-8098-42A4-B813-F127A4A8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3F0-73B9-4E4C-B5CF-FF3D9B96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437-C446-46A7-8AA9-2141A33B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FAC-D76A-4556-B4B2-B7D602E6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DC3-3531-49B5-8771-9963A92E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CBD-86C2-43CD-AD26-AD2E6EA9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EE4-D8AC-4E56-9EA7-A1175C0D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34F-05D3-42AA-AE12-8718DAF2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F1F9-BDC2-48FB-A6F0-F177E6140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601200" cy="68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8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562720" y="5267160"/>
          <a:ext cx="333504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5267160"/>
                    <a:ext cx="3335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228600"/>
            <a:ext cx="8686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Dabas liegums “Gudeniek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Zemes vienības un to kadastra num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534160" y="4191120"/>
            <a:ext cx="152280" cy="457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9436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K Noteikumos Nr212 (1999) noteiktā dabas lieguma “Gudenieki”rob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095880"/>
            <a:ext cx="152640" cy="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51:24Z</dcterms:created>
  <dc:creator>Loreta Urtane</dc:creator>
  <dc:description/>
  <dc:language>en-US</dc:language>
  <cp:lastModifiedBy>astrida</cp:lastModifiedBy>
  <cp:lastPrinted>2001-08-15T07:37:06Z</cp:lastPrinted>
  <dcterms:modified xsi:type="dcterms:W3CDTF">2001-08-15T07:39:56Z</dcterms:modified>
  <cp:revision>7</cp:revision>
  <dc:subject/>
  <dc:title>No Slide Title</dc:title>
</cp:coreProperties>
</file>